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DA27-4DFA-44D6-8BFD-2F5C3BC43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884AE-BEC4-4C61-B501-D4055596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C9A56-D750-446F-A4E0-F83059D2A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E31D2-7A08-41CD-BF40-3F6480859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2FBC-8941-4BD4-B33C-0972F2307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5FBE-D7A0-4417-8FA0-87833394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F3E20-1DC1-4B65-85F6-1FDE00B11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7C544-ABC0-4A3E-97BA-C5844CFEA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48D75-869A-4191-83A1-7C035F07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53E8-81C9-47B4-A4E6-E7D6C5921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107B-EB95-4579-B16F-09A90F76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8009-B686-49C7-A6E2-577EC95B0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DDC0-A196-4759-9D15-D1392EA1A3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The Struggle for </a:t>
            </a:r>
            <a:br>
              <a:rPr sz="4400"/>
            </a:br>
            <a:r>
              <a:rPr b="1" lang="en-US" sz="4400" spc="-1" strike="noStrike">
                <a:solidFill>
                  <a:srgbClr val="e3ebf1"/>
                </a:solidFill>
                <a:latin typeface="Bookman Old Style"/>
              </a:rPr>
              <a:t>Voting Rights in the South</a:t>
            </a:r>
            <a:endParaRPr b="0" lang="en-US" sz="4400" spc="-1" strike="noStrike">
              <a:solidFill>
                <a:srgbClr val="e3ebf1"/>
              </a:solidFill>
              <a:latin typeface="Arial"/>
            </a:endParaRPr>
          </a:p>
        </p:txBody>
      </p:sp>
      <p:pic>
        <p:nvPicPr>
          <p:cNvPr id="42" name="" descr=""/>
          <p:cNvPicPr/>
          <p:nvPr/>
        </p:nvPicPr>
        <p:blipFill>
          <a:blip r:embed="rId1"/>
          <a:stretch/>
        </p:blipFill>
        <p:spPr>
          <a:xfrm>
            <a:off x="152280" y="4419720"/>
            <a:ext cx="2514600" cy="1874880"/>
          </a:xfrm>
          <a:prstGeom prst="rect">
            <a:avLst/>
          </a:prstGeom>
          <a:ln w="0">
            <a:noFill/>
          </a:ln>
        </p:spPr>
      </p:pic>
      <p:pic>
        <p:nvPicPr>
          <p:cNvPr id="43" name="" descr=""/>
          <p:cNvPicPr/>
          <p:nvPr/>
        </p:nvPicPr>
        <p:blipFill>
          <a:blip r:embed="rId2"/>
          <a:stretch/>
        </p:blipFill>
        <p:spPr>
          <a:xfrm>
            <a:off x="7238880" y="1600200"/>
            <a:ext cx="1866960" cy="2666880"/>
          </a:xfrm>
          <a:prstGeom prst="rect">
            <a:avLst/>
          </a:prstGeom>
          <a:ln w="0">
            <a:noFill/>
          </a:ln>
        </p:spPr>
      </p:pic>
      <p:pic>
        <p:nvPicPr>
          <p:cNvPr id="44" name="" descr=""/>
          <p:cNvPicPr/>
          <p:nvPr/>
        </p:nvPicPr>
        <p:blipFill>
          <a:blip r:embed="rId3"/>
          <a:stretch/>
        </p:blipFill>
        <p:spPr>
          <a:xfrm>
            <a:off x="762120" y="1981080"/>
            <a:ext cx="6324480" cy="2727360"/>
          </a:xfrm>
          <a:prstGeom prst="rect">
            <a:avLst/>
          </a:prstGeom>
          <a:ln w="0">
            <a:noFill/>
          </a:ln>
        </p:spPr>
      </p:pic>
      <p:pic>
        <p:nvPicPr>
          <p:cNvPr id="45" name="" descr=""/>
          <p:cNvPicPr/>
          <p:nvPr/>
        </p:nvPicPr>
        <p:blipFill>
          <a:blip r:embed="rId4"/>
          <a:stretch/>
        </p:blipFill>
        <p:spPr>
          <a:xfrm>
            <a:off x="2743200" y="4268880"/>
            <a:ext cx="3238560" cy="2589120"/>
          </a:xfrm>
          <a:prstGeom prst="rect">
            <a:avLst/>
          </a:prstGeom>
          <a:ln w="0">
            <a:noFill/>
          </a:ln>
        </p:spPr>
      </p:pic>
      <p:sp>
        <p:nvSpPr>
          <p:cNvPr id="46" name=""/>
          <p:cNvSpPr/>
          <p:nvPr/>
        </p:nvSpPr>
        <p:spPr>
          <a:xfrm>
            <a:off x="6172200" y="4876920"/>
            <a:ext cx="274320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Bookman Old Style"/>
              </a:rPr>
              <a:t>Group #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Jennifer Bagget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armen Regalad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aul Schach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ldred William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Vicki William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3</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wo days of exposure to the lesson, students are given another color dot upon entering the classroom that they are to place on the same consensogram.  At this time, some may be indicting a higher level of understanding or knowledge than the first da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en-US" sz="2800" spc="-1" strike="noStrike" u="sng">
                <a:solidFill>
                  <a:srgbClr val="ffffff"/>
                </a:solidFill>
                <a:uFillTx/>
                <a:latin typeface="Arial"/>
              </a:rPr>
              <a:t>Liars Don’t Qualify</a:t>
            </a:r>
            <a:r>
              <a:rPr b="0" lang="en-US" sz="2800" spc="-1" strike="noStrike">
                <a:solidFill>
                  <a:srgbClr val="ffffff"/>
                </a:solidFill>
                <a:latin typeface="Arial"/>
              </a:rPr>
              <a:t> reading and reenactment by students.  Students will be given an oral “literacy” test to demonstrate what Blacks had to pass in order to qualify to register to vo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4</a:t>
            </a: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ral Project Activity</a:t>
            </a:r>
            <a:r>
              <a:rPr b="0" lang="en-US" sz="3200" spc="-1" strike="noStrike">
                <a:solidFill>
                  <a:srgbClr val="ffffff"/>
                </a:solidFill>
                <a:latin typeface="Arial"/>
              </a:rPr>
              <a:t>:  See notes from lesson 2.  See attachment for directions and rubric for the activity.  This activity will serve as a culminating activity gr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5</a:t>
            </a:r>
            <a:endParaRPr b="0" lang="en-US" sz="4400" spc="-1" strike="noStrike">
              <a:solidFill>
                <a:srgbClr val="e3ebf1"/>
              </a:solidFill>
              <a:latin typeface="Arial"/>
            </a:endParaRPr>
          </a:p>
        </p:txBody>
      </p:sp>
      <p:sp>
        <p:nvSpPr>
          <p:cNvPr id="68"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first week of instruction on the Voter’s Rights Movement in the South, students are given a third color dot to place on the consensogram.  There should be no dots of the third color on the lower end of the consensogram, and most if not all dots will be on the higher end of the graph showing that they are learning and have developed an understanding of the events that shaped the movem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Day Voting</a:t>
            </a:r>
            <a:r>
              <a:rPr b="0" lang="en-US" sz="2400" spc="-1" strike="noStrike">
                <a:solidFill>
                  <a:srgbClr val="ffffff"/>
                </a:solidFill>
                <a:latin typeface="Arial"/>
              </a:rPr>
              <a:t>:  Students will review a present day voter’s application and compare and contrast it to the literacy test.  Teacher will have set up a faux voting booth and registration verification table so that students can experience the present day voting process.  Students will write a reflection regarding their experience using the present day voting process and discuss how it differs from the voting experience prior to 196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6</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Lesson</a:t>
            </a:r>
            <a:r>
              <a:rPr b="0" lang="en-US" sz="2800" spc="-1" strike="noStrike">
                <a:solidFill>
                  <a:srgbClr val="ffffff"/>
                </a:solidFill>
                <a:latin typeface="Arial"/>
              </a:rPr>
              <a:t>:  </a:t>
            </a:r>
            <a:r>
              <a:rPr b="1" lang="en-US" sz="2800" spc="-1" strike="noStrike">
                <a:solidFill>
                  <a:srgbClr val="ffffff"/>
                </a:solidFill>
                <a:latin typeface="Arial"/>
              </a:rPr>
              <a:t>Past and Present Pen Pa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ctivity will require internet access with students in groups of two.  A strip of paper will be given to one person in each group with the names of two individuals who were involved in the Voters’ Rights Movement in the South.  Students will portray an individual and communicate via emai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Informal Assessment</a:t>
            </a:r>
            <a:endParaRPr b="0" lang="en-US" sz="44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 Bag:  </a:t>
            </a:r>
            <a:r>
              <a:rPr b="0" lang="en-US" sz="2400" spc="-1" strike="noStrike">
                <a:solidFill>
                  <a:srgbClr val="ffffff"/>
                </a:solidFill>
                <a:latin typeface="Arial"/>
              </a:rPr>
              <a:t>The teacher will create a bag with items that represent a person or event that took place during the movement.  For example, the teacher would place items like a toy horse, a hat (such as the hat worn by Dr. King), a billy club, a shoe, a trench coat, a man’s tie, a ladies purse, and hat.  The teacher will have the students guess what is in the bag before she presents the contents of the bag.  The teacher will take out one item at a time and show it to the students while explaining that the trench coat was worn by Hosea Williams on Bloody Sunday and explain each subsequent item in the bag while telling of its significance to the story of the Voter’s Rights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Resources</a:t>
            </a:r>
            <a:endParaRPr b="0" lang="en-US" sz="4400" spc="-1" strike="noStrike">
              <a:solidFill>
                <a:srgbClr val="e3ebf1"/>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iars don’t Qualif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ivil Rights Activist Recounts Bloody Sunday” from Tuskegee University Campus Dig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ting Rights Act of 196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Objective</a:t>
            </a:r>
            <a:endParaRPr b="0" lang="en-US" sz="4400" spc="-1" strike="noStrike">
              <a:solidFill>
                <a:srgbClr val="e3ebf1"/>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develop an understanding of the events that led to the Voting Rights Act of 1965 with 85% accur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Concept</a:t>
            </a:r>
            <a:endParaRPr b="0" lang="en-US" sz="44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 between Voting Rights &amp; Human Righ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Standards</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2 Explain the resistance to civil rights in the South between 1954 and 1965. [</a:t>
            </a:r>
            <a:r>
              <a:rPr b="1" lang="en-US" sz="2800" spc="-1" strike="noStrike">
                <a:solidFill>
                  <a:srgbClr val="ffffff"/>
                </a:solidFill>
                <a:latin typeface="Arial"/>
              </a:rPr>
              <a:t>Identify issues and problems in the pas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2 Assess the reasons for and effectiveness of the escalation from civil disobedience to more radical protest in the civil rights movement. [</a:t>
            </a:r>
            <a:r>
              <a:rPr b="1" lang="en-US" sz="2800" spc="-1" strike="noStrike">
                <a:solidFill>
                  <a:srgbClr val="ffffff"/>
                </a:solidFill>
                <a:latin typeface="Arial"/>
              </a:rPr>
              <a:t>Marshal evidence of antecedent circumstanc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Essential Question</a:t>
            </a:r>
            <a:endParaRPr b="0" lang="en-US" sz="4400" spc="-1" strike="noStrike">
              <a:solidFill>
                <a:srgbClr val="e3ebf1"/>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e right to vote an important component in American democracy and for human rights world w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Bookman Old Style"/>
              </a:rPr>
              <a:t>Special Education Modifications/Accommodations</a:t>
            </a:r>
            <a:endParaRPr b="0" lang="en-US" sz="4000" spc="-1" strike="noStrike">
              <a:solidFill>
                <a:srgbClr val="e3ebf1"/>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assignments into segments of shorter task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the number of concepts introduced at any one ti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nsistent review of any lesson before introducing new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Vocabulary</a:t>
            </a:r>
            <a:endParaRPr b="0" lang="en-US" sz="4400" spc="-1" strike="noStrike">
              <a:solidFill>
                <a:srgbClr val="e3ebf1"/>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dfather Claus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ing Rights Act of 1965</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y Sunda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Bel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vil Rights Ac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th Amendm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cy T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mund Pettus Brid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1</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students enter the classroom, they are given one sticky dot of the same color.  They are to place their dot over the number that best represents their level of knowledge of the Voter’s Rights Movement in the South.  The consensogram should actually be a bar graph when students are finished placing their dots.  See Example 1 attach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2</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deo</a:t>
            </a:r>
            <a:r>
              <a:rPr b="0" lang="en-US" sz="3200" spc="-1" strike="noStrike">
                <a:solidFill>
                  <a:srgbClr val="ffffff"/>
                </a:solidFill>
                <a:latin typeface="Arial"/>
              </a:rPr>
              <a:t>: </a:t>
            </a:r>
            <a:r>
              <a:rPr b="1" lang="en-US" sz="3200" spc="-1" strike="noStrike">
                <a:solidFill>
                  <a:srgbClr val="ffffff"/>
                </a:solidFill>
                <a:latin typeface="Arial"/>
              </a:rPr>
              <a:t>“A Time For Justice”</a:t>
            </a:r>
            <a:r>
              <a:rPr b="0" lang="en-US" sz="3200" spc="-1" strike="noStrike">
                <a:solidFill>
                  <a:srgbClr val="ffffff"/>
                </a:solidFill>
                <a:latin typeface="Arial"/>
              </a:rPr>
              <a:t>; students will take Cornell Notes during the video.  Teacher will provide powerpoint notes on the Voter’s Rights Struggle.  As students take Cornell Notes for a grade, they will also use these notes to create their Voting Rights Mural Pro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4:57:32Z</dcterms:created>
  <dc:creator>Carmen Regalado</dc:creator>
  <dc:description/>
  <dc:language>en-US</dc:language>
  <cp:lastModifiedBy>Charzetta Richardson</cp:lastModifiedBy>
  <dcterms:modified xsi:type="dcterms:W3CDTF">2007-07-14T16:56:55Z</dcterms:modified>
  <cp:revision>36</cp:revision>
  <dc:subject/>
  <dc:title>The Struggle  for Voting Rights  </dc:title>
</cp:coreProperties>
</file>